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D645-AB23-4D8D-B288-AD034DD00A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FF3E-4B94-42AB-9EA3-371BFE4EA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960-603B-4B3F-BF51-90F03BA5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551-88C1-41AC-B0FE-B4C193A2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3B5-6EE7-4064-8845-590A9D87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ACF-1D85-47D3-9575-2D85295D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1752-B390-4F35-A489-BAA9B39F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7C22-CEAA-48B6-B252-D578197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F104-507D-4F13-BEC6-840972E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DF7E-0FB1-4A29-B0CE-C78AAF7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095D-DEE0-4C03-9FE0-31409D20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545-391D-4D37-B03D-721F0D70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E6B-2AF6-45E7-A1A2-5FDE34E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AE9-36D8-44CC-9457-946BD98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DEB9-00A0-4A1F-BFE6-5506356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1069-E086-481C-AACC-D1BA361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E36F-23BC-4C84-AC20-A79E9FFD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14DB-1A37-44D2-A3BF-AABE065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955-4848-49F7-BC73-54E3ED18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4B6-2F90-460F-8AEB-5434B0C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593-5035-467C-8F6A-C2B2248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72F-5194-45A5-AFEC-FFD3FFF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6E-D592-46FD-8504-E629BFC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113-FB4C-436D-9AB8-8651997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E59-21EB-49A7-87A6-CD7237A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D9F-2095-4E85-95CD-2631977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A46F-6D30-4793-9DB1-C8F07F26B2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C53-6338-4F15-AA00-F3BC722E6B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3.depositphotos.com/1000130/201/i/950/depositphotos_2016989-Stop-drug.jpg" TargetMode="External"/><Relationship Id="rId2" Type="http://schemas.openxmlformats.org/officeDocument/2006/relationships/hyperlink" Target="http://cs4452.vk.me/u118551047/128077957/y_34b1d479.jpg" TargetMode="External"/><Relationship Id="rId3" Type="http://schemas.openxmlformats.org/officeDocument/2006/relationships/hyperlink" Target="http://demotiva.ru/i/d/a/7/01435d8de354f7dcbe085a61cada3.jpg" TargetMode="External"/><Relationship Id="rId4" Type="http://schemas.openxmlformats.org/officeDocument/2006/relationships/hyperlink" Target="http://piscovichi.ru/Documents/0glavnaya/56CBBEA517C777A4B786B3BA02C31E41.jpg" TargetMode="External"/><Relationship Id="rId5" Type="http://schemas.openxmlformats.org/officeDocument/2006/relationships/hyperlink" Target="http://bavly.tatarstan.ru/file/454(1).jpg" TargetMode="External"/><Relationship Id="rId6" Type="http://schemas.openxmlformats.org/officeDocument/2006/relationships/hyperlink" Target="http://demotivators.to/media/posters/379/455737_narkotiki-eto-estestvennyij-otbor.jpg" TargetMode="External"/><Relationship Id="rId7" Type="http://schemas.openxmlformats.org/officeDocument/2006/relationships/hyperlink" Target="http://bopt.org/wp-content/uploads/2014/09/otvet2.jpg" TargetMode="External"/><Relationship Id="rId8" Type="http://schemas.openxmlformats.org/officeDocument/2006/relationships/hyperlink" Target="file:///%8C-&#1086;&#1090;-&#1078;&#1080;&#1079;&#1085;&#1080;-&#1072;-&#1090;&#1086;-&#1086;&#1090;-&#1095;&#1077;&#1075;&#1086;-&#1086;&#1090;&#1082;&#1072;&#1079;&#1099;&#1074;&#1072;&#1077;&#1096;&#1100;&#1089;&#1103;..jpg" TargetMode="External"/><Relationship Id="rId9" Type="http://schemas.openxmlformats.org/officeDocument/2006/relationships/hyperlink" Target="http://alco.cursotamandare.g12.br/uploads/posts/2015-12/thumbs/29022213-kakie-preparaty-ispolzuyut-pri-kodirovanii-ot-alkogolizma.jpg" TargetMode="External"/><Relationship Id="rId10" Type="http://schemas.openxmlformats.org/officeDocument/2006/relationships/hyperlink" Target="http://fs.homegate.ru/file/258599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tivatory.ru/img/poster/c463a2f33b.jpg" TargetMode="External"/><Relationship Id="rId2" Type="http://schemas.openxmlformats.org/officeDocument/2006/relationships/hyperlink" Target="http://cs988.vk.me/u24514849/129407023/y_2b9195cf.jpg" TargetMode="External"/><Relationship Id="rId3" Type="http://schemas.openxmlformats.org/officeDocument/2006/relationships/hyperlink" Target="http://pwpt.ru/uploads/presentation_screenshots/5e2df3bd2aea4361419ddf10a5c5503a.JP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569880" y="3989520"/>
            <a:ext cx="2859120" cy="281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480" y="203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Tahoma"/>
              </a:rPr>
              <a:t>Профилактика наркомании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583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Открытый урок по основам безопасности жизнедеятельности в 9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52578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2299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52280" y="18284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Главная опасность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стать наркоманом кроется в желании (из любопытства, за компанию или по другой причине)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ервый раз попробовать наркотик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533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33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Наркоманию легче предупредить, чем излеч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988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6705720" y="1219320"/>
            <a:ext cx="2286000" cy="224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480" y="361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Рекомендац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28572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ните: наркоторговцы хитры и коварн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опротивляясь в приёме первого наркотика, вы боретесь за свою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Если же вам навязывают попробовать наркотики, вы должны любым способом отказаться. Статья 230 УК РФ: «Склонение к потреблению наркотических средств наказывается лишением свободы на срок от двух до пяти лет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О тех, кто к вам пристаёт с предложением попробовать наркотик, необходимо рассказать родителям, преподавателю, сообщить правоохранительным орга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0880" y="1133640"/>
            <a:ext cx="6553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режде чем купить и попробовать наркотик, подумайте: а зачем вам это надо? Вспомните, к чему может привести первая проба наркотика в вашей жиз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Допустим, в силу обстоятельств в ваши руки попал-таки наркотик. Будьте мужественными и твёрдыми, не поленитесь и донесите его до унитаз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8600" y="304560"/>
            <a:ext cx="556236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788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§6.6, стр. 128-134, ответить на вопрос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творческое задание: презентация, 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3840" y="4648320"/>
            <a:ext cx="861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Жизнь и коротка, и прекрасна. Прожить её надо в полную силу своих человеческих возможностей – духовных и физическ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7680" y="102708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static3.depositphotos.com/1000130/201/i/950/depositphotos_2016989-Stop-dru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4452.vk.me/u118551047/128077957/y_34b1d47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demotiva.ru/i/d/a/7/01435d8de354f7dcbe085a61cada3.jpg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piscovichi.ru/Documents/0glavnaya/56CBBEA517C777A4B786B3BA02C31E4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5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http://bavly.tatarstan.ru/file/454(1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demotivators.to/media/posters/379/455737_narkotiki-eto-estestvennyij-otb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7 картинка -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bopt.org/wp-content/uploads/2014/09/otvet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8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best-dem.ru/wp-content/uploads/2011/05/%D0%92%D0%AB%D0%91%D0%9E%D0%A0-%D0%98%D0%BD%D0%BE%D0%B3%D0%B4%D0%B0-%D0%B2%D0%B0%D0%B6%D0%BD%D0%B5%D0%B5-%D0%BD%D0%B5-%D1%82%D0%BE-%D1%87%D1%82%D0%BE-%D1%82%D1%8B-%D0%B1%D0%B5%D1%80%D0%B5%D1%88%D1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%8C-%D0%BE%D1%82-%D0%B6%D0%B8%D0%B7%D0%BD%D0%B8-%D0%B0-%D1%82%D0%BE-%D0%BE%D1%82-%D1%87%D0%B5%D0%B3%D0%BE-%D0%BE%D1%82%D0%BA%D0%B0%D0%B7%D1%8B%D0%B2%D0%B0%D0%B5%D1%88%D1%8C%D1%81%D1%8F.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9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alco.cursotamandare.g12.br/uploads/posts/2015-12/thumbs/29022213-kakie-preparaty-ispolzuyut-pri-kodirovanii-ot-alkogoliz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0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fs.homegate.ru/file/2585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69880" y="42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otivatory.ru/img/poster/c463a2f33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988.vk.me/u24514849/129407023/y_2b9195c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pwpt.ru/uploads/presentation_screenshots/5e2df3bd2aea4361419ddf10a5c5503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4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demotivators.to/media/posters/4085/579548_odin-ukol-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5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s017.radikal.ru/i404/1110/97/72c3218791a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Основы безопасности жизнедеятельности. 9 класс: учеб. для общеобразоват. учреждений/ А.Т. Смирнов, Б.О. Хренников; под общ. ред. А.Т. Смирнова; Рос. акад. наук, Рос. акад. образования, изд-во «Просвещение». – 4-е изд. – М.: Просвещение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, К. Бохонова, Е. Прянишникова. «Школа – территория без наркотиков». Журнал ОБЖ, февраль 200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. «О наркотиках с разных сторон». Журнал ОБЖ, март 200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zanimatika.narod.ru/Vospitanie_etiket.htm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тиховоспитание: этикет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frazochka.ru/authors/3295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Афор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www.xliby.ru/zdorove/put_v_stranu_zdorovja/p28.php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Родители должны зн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infourok.ru/referat-na-temu-zozh-550044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Чуракова Е.. Реферат «Здоровый образ жизн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porgi.ru/scenki-scenarii/scenarijj-net-narkotikam/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ценарий антинаркотического конкурса «Мы вместе» - нет наркотик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297025491_1290418793_538049_pejkolisbuhaj-i-nyuhaj"/>
          <p:cNvPicPr/>
          <p:nvPr/>
        </p:nvPicPr>
        <p:blipFill>
          <a:blip r:embed="rId1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7772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8608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04920" y="57168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VQV3dk8ZINQ"/>
          <p:cNvPicPr/>
          <p:nvPr/>
        </p:nvPicPr>
        <p:blipFill>
          <a:blip r:embed="rId1"/>
          <a:stretch/>
        </p:blipFill>
        <p:spPr>
          <a:xfrm>
            <a:off x="6248520" y="380880"/>
            <a:ext cx="25318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AutoShape 7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04720" y="1866960"/>
            <a:ext cx="54864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1552680" y="298440"/>
            <a:ext cx="33242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579548_odin-ukol-"/>
          <p:cNvPicPr/>
          <p:nvPr/>
        </p:nvPicPr>
        <p:blipFill>
          <a:blip r:embed="rId1"/>
          <a:stretch/>
        </p:blipFill>
        <p:spPr>
          <a:xfrm>
            <a:off x="5722920" y="409680"/>
            <a:ext cx="3071880" cy="48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AutoShape 6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3520" y="1839960"/>
            <a:ext cx="4724280" cy="41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343160" y="276120"/>
            <a:ext cx="323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частье, радость, любовь, доверие. За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60360" y="430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Будущее – в настоящем,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но будущее – и в прош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57200" y="11984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Это мы создаём его.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Если оно плохо, в этом наша вина»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762120" y="2292480"/>
            <a:ext cx="76960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235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33"/>
                </a:solidFill>
                <a:uFillTx/>
                <a:latin typeface="Arial"/>
              </a:rPr>
              <a:t>Проверка домашнего задания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811080"/>
            <a:ext cx="81849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. В каком году мировое сообщество предприняло первую попытку предотвращения распространения наркотиков по план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1901 году; б) в 1906 году; в) в 1909 году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г) в 1911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2. Первая Конвенция о наркотиках была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Гааге;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в Женеве; в) в Нью-Й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. Какой документ имеет статус Федерального зак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«Комплексные меры противодействия злоупотреблению наркотиками и их незаконному оборот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«О наркотических средствах и психотропных веществах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«О мерах по усилению противодействия незаконному обороту наркотических средств, психотропных веществ и злоупотреблению им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4. За какие действия, связанные с оборотом наркотических и психотропных веществ, Уголовный кодекс РФ предусматривает наказ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за незаконное изготовление, приобретение, хранение, пересылку наркотических средств или психотропных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за хищение либо вымогательство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за склонение к потреблению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за все перечисле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5. Из приведённых ниже утверждений выберите единственно истин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наркотики бывают «серьёзные» и «несерьёзные», лег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наркотики делают человека свобод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наркотики разрушают личность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наркотики помогают решать жизненные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17440" y="1600200"/>
          <a:ext cx="3200400" cy="3860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8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Г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54760" y="1600200"/>
          <a:ext cx="3429000" cy="3886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Критерии:</a:t>
                      </a: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 баллов</a:t>
                      </a:r>
                      <a:r>
                        <a:rPr b="0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– «отличн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балла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–«хорош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 и меньше</a:t>
                      </a:r>
                      <a:r>
                        <a:rPr b="0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– «Вам необходимо ещё раз проработать материал»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63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амооценка: «Государственная политика противодействия наркотизму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6048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Каждый правильный ответ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3004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зм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– это комплексная социальная система, в которо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хорошо отлажен незаконный оборот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формирована система вовлечения всё новых групп молодёжи в число потребителей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214880" y="4595760"/>
            <a:ext cx="480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рганизованы преступные группировки, защищающие наркобизнес и наркома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34340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3720" y="42048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Результаты проведённого анкетиров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ывод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: с определённой вероятностью «наркогенный риск» существует для 23% обучающихся старшего звена (9-11 кл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52280" y="1327320"/>
          <a:ext cx="8763120" cy="42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27320"/>
                    <a:ext cx="876312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219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Тема урока: </a:t>
            </a:r>
            <a:br>
              <a:rPr sz="38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Профилактика наркомании»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Цель: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и проанализировать информацию, которая поможет сформировать отрицательное отношение к потреблению наркот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029200" y="4467240"/>
            <a:ext cx="3581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3400" y="344520"/>
            <a:ext cx="5943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Проблемный вопрос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30472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Любую болезнь легче предупредить, чем заниматься её лечением. Относится ли это к нарко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13200" y="1066680"/>
            <a:ext cx="39052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28200" y="1190520"/>
            <a:ext cx="8077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Утверждение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– это социально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заболевание, практически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еизлечимое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торому человек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вергает себ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обровольно, начав употребл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к.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Утверждение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авляющая часть наркоманов не доживает до 30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Утверждение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начинает формироваться с первой про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16002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2:33:10Z</dcterms:created>
  <dc:creator>ломовы</dc:creator>
  <dc:description/>
  <dc:language>en-US</dc:language>
  <cp:lastModifiedBy>admin</cp:lastModifiedBy>
  <dcterms:modified xsi:type="dcterms:W3CDTF">2020-03-11T06:59:2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